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4A2-9369-4F68-9944-A2181454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28F-072D-4CDE-91E9-4D52E5BB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DDE-8D9A-47E1-ACDD-535AF1E3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35D-4451-4F38-8020-387360D7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96D-9D1A-45E9-91A9-86AEAF68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3F5-B30D-40DC-B7D6-3021C5D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BA9-4C1C-4F09-878D-0FE61CB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F7C-0988-458B-92C8-79B42F1C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213-8CDA-4A22-87D1-F7A18EFC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869-8DF9-4A6E-A404-10413427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7C5-5CFD-45EB-8539-835B7FB0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D73-C58F-41AC-AC94-14EDBE09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3C09-88E3-4315-8D2C-A8B87D5F0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Irw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goes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36:16Z</dcterms:created>
  <dc:creator> </dc:creator>
  <dc:description/>
  <dc:language>en-US</dc:language>
  <cp:lastModifiedBy> </cp:lastModifiedBy>
  <dcterms:modified xsi:type="dcterms:W3CDTF">2009-04-07T16:51:27Z</dcterms:modified>
  <cp:revision>2</cp:revision>
  <dc:subject/>
  <dc:title>Presentation</dc:title>
</cp:coreProperties>
</file>